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wmf" ContentType="image/x-wmf"/>
  <Override PartName="/ppt/media/image8.gif" ContentType="image/gif"/>
  <Override PartName="/ppt/media/image18.jpeg" ContentType="image/jpeg"/>
  <Override PartName="/ppt/media/image12.gif" ContentType="image/gif"/>
  <Override PartName="/ppt/media/image3.jpeg" ContentType="image/jpeg"/>
  <Override PartName="/ppt/media/image7.gif" ContentType="image/gif"/>
  <Override PartName="/ppt/media/image10.wmf" ContentType="image/x-wmf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AC26-19D4-4A88-9950-0D62EB9C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DE2-223E-4250-9706-7D7ABF6A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4EC2-262C-4B0F-954F-EA2806D9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3DDF-2954-4290-80C4-DB6843DB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1143-CBE6-424E-9A10-C4D1685E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8DF8-701C-4989-A9C4-73C5E2D8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3BF3-536C-45C5-9002-1F78B71B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5AFE-BD9E-4CCB-B2ED-A1EBD15A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0011-B561-4F84-8651-AC0293F9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96E1-A7B3-437F-8758-4010E8E7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5D37-5694-4D6A-96E9-87C5B37C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5C90-80C1-4FCB-A602-D4B2D0EF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5CA2-B558-4706-8E1D-70B55A12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BC2F-10EE-428B-80C8-DF4B7D96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7A8E-FAD7-45C7-8A46-D493A051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D062-9242-4F1A-A16B-E43CB62D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3580-0FCD-4FC2-9CDD-3D56BC75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020-A64F-41B9-804B-6ED1D631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E77-ECBD-4818-BDD4-17743ADA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C95-C784-40F4-9A84-3C7527DD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773C-F70C-42C0-A4BF-5881FC30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4127-AA41-46FA-99B6-BC1BB377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4EDA-261A-47B3-8E4F-73B486CC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3E9E-B7C5-4493-9E84-6FB5C8C2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4652-BAF2-48CD-8AA3-CA4C945714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60A6-2501-420E-A443-F79CDE85F4AA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763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23880" y="1676520"/>
            <a:ext cx="6477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依法参与环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自觉维护环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78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2895480" cy="4952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648320" y="16477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这位七十多岁的老人，叫潘宏耕，是我们杭州的“护鸟使者”。他三十年如一日地投身在环保事业中，他为生态环境做出的贡献为他赢得了第五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“地球奖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5800" y="2286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在家娱乐也要受罚，这你相信吗？小伙子吴刚搬了新居还添置了全新的卡拉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OK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机，于是趁假期邀亲朋好友到家欢度佳节。连续三天，宾客盈门。客人们兴致很高，争着听歌、唱歌直至深夜，而且音量很大。结果吴刚遭到了邻居的投诉，公安、环保部门对吴刚依法进行了行政处罚，并要求吴刚停止对他人产生侵害的行为，并向邻居赔礼道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34290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幼圆"/>
              </a:rPr>
              <a:t>这可是千真万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3733920"/>
            <a:ext cx="8077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法律依据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权利角度——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受保护权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，即公民有要求环境行政执法机关保护其合法权益的权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义务角度——（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遵守环境法律制度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的义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60199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服从环境行政决定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的义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90720" y="83808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cc"/>
                </a:solidFill>
                <a:latin typeface="Times New Roman"/>
                <a:ea typeface="幼圆"/>
              </a:rPr>
              <a:t>与青少年有关的在环境执法中公民的权利和义务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066680" y="1803240"/>
          <a:ext cx="7010640" cy="4064040"/>
        </p:xfrm>
        <a:graphic>
          <a:graphicData uri="http://schemas.openxmlformats.org/drawingml/2006/table">
            <a:tbl>
              <a:tblPr/>
              <a:tblGrid>
                <a:gridCol w="3505320"/>
                <a:gridCol w="3505320"/>
              </a:tblGrid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权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义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参与管理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参与管理的义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受益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遵守环境法律的义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受保护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服从环境行政决定的义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1905120" y="533520"/>
            <a:ext cx="4190760" cy="11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9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727de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环保</a:t>
            </a:r>
            <a:r>
              <a:rPr b="0" lang="en-US" sz="5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727de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DIY</a:t>
            </a:r>
            <a:endParaRPr b="0" lang="en-US" sz="5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727de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533520"/>
            <a:ext cx="7848360" cy="5715000"/>
          </a:xfrm>
          <a:prstGeom prst="rect">
            <a:avLst/>
          </a:prstGeom>
          <a:noFill/>
          <a:ln cap="sq" w="127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7724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5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905120" y="533520"/>
            <a:ext cx="4190760" cy="11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9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727de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环保</a:t>
            </a:r>
            <a:r>
              <a:rPr b="0" lang="en-US" sz="5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727de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DIY</a:t>
            </a:r>
            <a:endParaRPr b="0" lang="en-US" sz="5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727de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120" y="25142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幼圆"/>
              </a:rPr>
              <a:t>选择绿色消费，做绿色“选民”：不买过度包装商品，减少垃圾灾难；认绿色食品标志，保障自身健康；买环保电池；选无磷洗衣粉；用无氟制品；认“环境标志”选购绿色商品。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835280" y="4292640"/>
            <a:ext cx="942840" cy="952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851280" y="4941720"/>
            <a:ext cx="1131840" cy="1132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6156360" y="42926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905120" y="533520"/>
            <a:ext cx="4190760" cy="11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9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727de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环保</a:t>
            </a:r>
            <a:r>
              <a:rPr b="0" lang="en-US" sz="5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727de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DIY</a:t>
            </a:r>
            <a:endParaRPr b="0" lang="en-US" sz="5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727de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213372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幼圆"/>
              </a:rPr>
              <a:t>选择绿色消费，做绿色“选民”：不买过度包装商品，减少垃圾灾难；认绿色食品标志，保障自身健康；买环保电池；选无磷洗衣粉；用无氟制品；认“环境标志”选购绿色商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219320" y="22226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219320" y="41148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3880" y="405144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幼圆"/>
              </a:rPr>
              <a:t>拒食野生动物，拒绝野生动植物制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1219320" y="45720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3880" y="450864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幼圆"/>
              </a:rPr>
              <a:t>领养树木，做绿林卫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1219320" y="49528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523880" y="49608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无污染旅游——除了脚印，什么也别留下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1258920" y="57340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547640" y="5661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幼圆"/>
              </a:rPr>
              <a:t>善待动物，做动物的朋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09480" y="9144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金点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9520" y="2971800"/>
            <a:ext cx="154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隶书"/>
              </a:rPr>
              <a:t>——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隶书"/>
              </a:rPr>
              <a:t>给学校提一份环保建议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3520" y="374760"/>
            <a:ext cx="8001000" cy="61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1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304920"/>
            <a:ext cx="7315200" cy="5943600"/>
          </a:xfrm>
          <a:prstGeom prst="rect">
            <a:avLst/>
          </a:prstGeom>
          <a:noFill/>
          <a:ln cap="sq" w="127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71629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11280" y="990720"/>
            <a:ext cx="81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   </a:t>
            </a:r>
            <a:r>
              <a:rPr b="1" lang="zh-CN" sz="8800" spc="-1" strike="noStrike">
                <a:solidFill>
                  <a:srgbClr val="ff33cc"/>
                </a:solidFill>
                <a:latin typeface="华文新魏"/>
                <a:ea typeface="华文新魏"/>
              </a:rPr>
              <a:t>保护环境  ，是每个人应尽的职责！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41280" y="1905120"/>
            <a:ext cx="6607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环境污染防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法律有：《环境保护法》、《水污染防治法》、《大气污染防治法》、《固体废物污染防治法》、《环境噪声污染防治法》、《海洋环境保护法》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自然资源保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面的法律有：《水法》、《森林法》、《草原法》、《野生动物保护法》、《矿产资源法》、《土地管理法》、《渔业法》、《节约能源法》、《煤炭法》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自然灾害防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面的法律有：《水土保持法》、《防洪法》、《防震减灾法》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95480" y="304920"/>
            <a:ext cx="3200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7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宋体"/>
              </a:rPr>
              <a:t>环保法律知多少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ff"/>
                  </a:gs>
                  <a:gs pos="100000">
                    <a:srgbClr val="ffcc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38280" y="304920"/>
            <a:ext cx="1266840" cy="1447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e9e2b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943600" y="1776240"/>
            <a:ext cx="1600200" cy="20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方正舒体"/>
              </a:rPr>
              <a:t>假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19051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ff"/>
                </a:solidFill>
                <a:latin typeface="Times New Roman"/>
                <a:ea typeface="隶书"/>
              </a:rPr>
              <a:t>是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98108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ff"/>
                </a:solidFill>
                <a:latin typeface="Times New Roman"/>
                <a:ea typeface="隶书"/>
              </a:rPr>
              <a:t>是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666880" y="1752480"/>
            <a:ext cx="1600200" cy="20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方正舒体"/>
              </a:rPr>
              <a:t>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0" y="4343400"/>
            <a:ext cx="167652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33520" y="838080"/>
            <a:ext cx="861840" cy="844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8001000" y="3505320"/>
            <a:ext cx="861840" cy="844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2362320" y="0"/>
            <a:ext cx="861840" cy="844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1981080" y="4419720"/>
            <a:ext cx="862200" cy="844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0" y="3429000"/>
            <a:ext cx="861840" cy="844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5562720" y="4267080"/>
            <a:ext cx="861840" cy="844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3886200" y="3505320"/>
            <a:ext cx="861840" cy="844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7696080" y="1447920"/>
            <a:ext cx="862200" cy="844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>
            <a:lum bright="70000" contrast="-70000"/>
          </a:blip>
          <a:stretch/>
        </p:blipFill>
        <p:spPr>
          <a:xfrm>
            <a:off x="457200" y="5638680"/>
            <a:ext cx="861840" cy="844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>
            <a:lum bright="70000" contrast="-70000"/>
          </a:blip>
          <a:stretch/>
        </p:blipFill>
        <p:spPr>
          <a:xfrm>
            <a:off x="6172200" y="304920"/>
            <a:ext cx="861840" cy="844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2">
            <a:lum bright="70000" contrast="-70000"/>
          </a:blip>
          <a:stretch/>
        </p:blipFill>
        <p:spPr>
          <a:xfrm>
            <a:off x="4343400" y="1066680"/>
            <a:ext cx="861840" cy="84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3">
            <a:lum bright="70000" contrast="-70000"/>
          </a:blip>
          <a:stretch/>
        </p:blipFill>
        <p:spPr>
          <a:xfrm>
            <a:off x="4267080" y="5638680"/>
            <a:ext cx="86220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e9e2b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135576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666880" y="76212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ff"/>
                </a:solidFill>
                <a:latin typeface="Times New Roman"/>
                <a:ea typeface="幼圆"/>
              </a:rPr>
              <a:t>自学充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2514600"/>
            <a:ext cx="64767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充电内容：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自然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充电时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充电要求：掌握在环境执法中与青少年有关的权利和义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590920"/>
            <a:ext cx="457200" cy="457200"/>
          </a:xfrm>
          <a:prstGeom prst="ellipse">
            <a:avLst/>
          </a:prstGeom>
          <a:gradFill rotWithShape="0">
            <a:gsLst>
              <a:gs pos="0">
                <a:srgbClr val="e9e2b6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4038480"/>
            <a:ext cx="457200" cy="457200"/>
          </a:xfrm>
          <a:prstGeom prst="ellipse">
            <a:avLst/>
          </a:prstGeom>
          <a:gradFill rotWithShape="0">
            <a:gsLst>
              <a:gs pos="0">
                <a:srgbClr val="e9e2b6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352680"/>
            <a:ext cx="457200" cy="457200"/>
          </a:xfrm>
          <a:prstGeom prst="ellipse">
            <a:avLst/>
          </a:prstGeom>
          <a:gradFill rotWithShape="0">
            <a:gsLst>
              <a:gs pos="0">
                <a:srgbClr val="e9e2b6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" y="8380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你一定知道“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12345”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，那你知道“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12369” 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吗？这可是我们国家统一的环保投诉电话。在我们杭州，这个电话平均每天接到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个投诉，在高峰期，每天接到的投诉在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30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个以上。在我们杭州市的环保建设中， “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12369”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可是大功臣。这是真的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43434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法律依据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我国的《环境保护法》规定：“一切单位和个人都有保护环境的义务，并有权对污染和破坏环境的单位和个人进行检举和控告”。这体现出了我们在有关的环境执法中所享有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“参与管理权”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。这既是我们享有的权利又是我们应尽的义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333684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幼圆"/>
              </a:rPr>
              <a:t>这当然是真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8380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说到举报，你知道吗，政府为了鼓励公民积极参与环境保护，明文规定，只要你勇于举报，你就会得到政府的奖金。这会是真的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28954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幼圆"/>
              </a:rPr>
              <a:t>真可惜，这不是真的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26708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隶书"/>
              </a:rPr>
              <a:t>法律依据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尽管公民在环境执法中享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“受益权”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，但“受益”是有一定的条件的。我国的《环境保护法》规定：“对保护和改善环境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有显著成绩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的单位和个人，由人民政府给予奖励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143000" y="1219320"/>
            <a:ext cx="7238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自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2001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年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月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日起实施的《浙江省环境违法行为举报奖励暂行办法》中规定：“ 环境保护行政主观部门根据举报人对举报事实的举证、协查的程度和被举报单位对环境的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危害程度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或者因举报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避免了重大环境污染损害的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，由负责查处的环境保护行政主管部门对举报人予以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200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元以上到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2000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元以下的奖励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391520" y="5348160"/>
            <a:ext cx="1066680" cy="962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05:42:3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2:18:41Z</dcterms:modified>
  <cp:revision>1</cp:revision>
  <dc:subject>主题班会课件(分28大类): http://shop62905894.taobao.com</dc:subject>
  <dc:title>主题班会课件(分28大类): http://shop62905894.taobao.com</dc:title>
</cp:coreProperties>
</file>